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155-8E4D-4104-B9F3-13241DD9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0A1-1D88-4AFC-9BAF-43E7C984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411-3984-43A0-A055-91C9C388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AE3-5227-40C2-A837-D3C1A08C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4C4-5018-4257-98AD-D79444B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85D-DAB6-4443-93C4-ED7C71FA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33C-2F89-494D-9276-FE3BDF1A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490-EEC3-4F96-9BDB-2C90BE19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880-28D0-443C-A570-70BE0241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954-4551-4EE8-911A-E357CC1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024-4431-44F6-99DC-687EB2CB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791-E78F-41BD-B52A-DB18220B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825A-80D7-4F33-947A-69DEDB387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44880" y="1116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440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FIFE  ASSOC.                     DUNFERMLINE  ASSOC.                     ABBEYVIEW                                     ABBEYVIEW                                   ABBEYVIEW                                ABBEYVIEW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OUR                               ABERDOUR  100TH                           BRITISH  ALCAN                 BEVERIDGE  PARK  PUBLIC               BEVERIDGE  PARK          BEVERIDGE  PAR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WHILL                                          BOWHILL                                          BOWHILL                                     BOWHILL  75TH                    BOWHILL  MILLENNIUM                         BROAD  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0708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AD  STREET                       BROAD  STREET  10TH                            BURNTISLAND                             BURNTISLAND  100TH                       CHARLESTOWN                       CHARLESTOW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4520" y="3333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0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073240" y="40464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048520" y="260280"/>
            <a:ext cx="122580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1800" y="213372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2133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1989000"/>
            <a:ext cx="8780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537240" y="1989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7977240" y="2060640"/>
            <a:ext cx="124308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560520" y="371628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07324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681960" y="3716280"/>
            <a:ext cx="93312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265960" y="371628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516640"/>
            <a:ext cx="96984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44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5168880" y="537372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537372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8121600" y="4941720"/>
            <a:ext cx="1298520" cy="163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513240" y="404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168880" y="3716280"/>
            <a:ext cx="1122480" cy="104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3657600" y="3645000"/>
            <a:ext cx="1001880" cy="115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024520" y="2060640"/>
            <a:ext cx="11556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8:01:46Z</dcterms:created>
  <dc:creator>JOHN YOUNG</dc:creator>
  <dc:description/>
  <dc:language>en-US</dc:language>
  <cp:lastModifiedBy>JY</cp:lastModifiedBy>
  <cp:lastPrinted>2000-08-08T16:50:42Z</cp:lastPrinted>
  <dcterms:modified xsi:type="dcterms:W3CDTF">2005-12-12T11:00:31Z</dcterms:modified>
  <cp:revision>28</cp:revision>
  <dc:subject/>
  <dc:title>No Slide Title</dc:title>
</cp:coreProperties>
</file>